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Controlo de Infeção em Cuidados Continu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3A4B0-CC5A-400A-84B6-E38DEE029210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7EBF9-2647-48DE-9EB4-1E310B7DBF57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13E21-2218-4ECE-8E50-661A4F001D4C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13BD6-E848-4B25-AB91-85ACDDDAABED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81D40-9281-42B1-BCDA-B279C70B6E4C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32BB0-1A98-4A65-BB5E-F91531AD48EA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39925-DCD3-4CEB-9879-B763653F4F42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38404-4C87-4961-A14F-A72E1DC73D60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DBAEC-C69D-4FF1-93C9-C7AC0451BA78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FC73-01D2-4320-9DEB-DA026A437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5161-62A0-4A2C-BD75-7D42A97BE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F7A5-A43A-48CF-9B01-DEA94977B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D980-2224-4FCD-85C1-BBDBD7A36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04F8-08DB-4D88-9708-70B6E8662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EBCA-5DD4-4221-833B-01AD11E0B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DF48-1E83-4170-9226-9428A5E82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CDFF-4FF1-4DD7-8C11-AFA8B0DDA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99E2-EDC7-4A49-BD19-3732055E1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6E6D-85D1-4875-92B7-076C3F5C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540F-223D-4D90-B9B5-6D86519E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5757-4C4E-4035-8C66-E890BCD8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9C6AC-0851-4D46-A307-BD61D95A9064}" type="datetime">
              <a:rPr b="0" lang="pt-PT" sz="1200" spc="-1" strike="noStrike">
                <a:solidFill>
                  <a:srgbClr val="898989"/>
                </a:solidFill>
                <a:latin typeface="Century Schoolbook"/>
              </a:rPr>
              <a:t>30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entury Schoolbook"/>
              </a:rPr>
              <a:t>Controlo de Infeção em Cuidados Continuados   -   Constança Carnei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C1FB5-F2B1-4386-B337-103F043B0369}" type="slidenum">
              <a:rPr b="0" lang="pt-PT" sz="1200" spc="-1" strike="noStrike">
                <a:solidFill>
                  <a:srgbClr val="898989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UCCI049%20-%20Auditoria%20PBCI.xlsx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UCCI049%20-%20Auditoria%20PBCI.xlsx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REG_ATB_UMDR_2014.xl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m 9" descr="3103400930e9d4aaa7da32d06ecb73a1.jpg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-571680" y="0"/>
            <a:ext cx="4410360" cy="3306600"/>
          </a:xfrm>
          <a:prstGeom prst="rect">
            <a:avLst/>
          </a:prstGeom>
          <a:ln w="0">
            <a:noFill/>
          </a:ln>
        </p:spPr>
      </p:pic>
      <p:sp>
        <p:nvSpPr>
          <p:cNvPr id="49" name="Rectângulo arredondado 8"/>
          <p:cNvSpPr/>
          <p:nvPr/>
        </p:nvSpPr>
        <p:spPr>
          <a:xfrm>
            <a:off x="-684360" y="3141720"/>
            <a:ext cx="5256360" cy="3716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7375e"/>
              </a:gs>
              <a:gs pos="100000">
                <a:srgbClr val="dce6f2"/>
              </a:gs>
            </a:gsLst>
            <a:lin ang="5400000"/>
          </a:gradFill>
          <a:ln w="4140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f497d"/>
                </a:solidFill>
                <a:latin typeface="Century Schoolbook"/>
              </a:rPr>
              <a:t>Maria José Viei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7"/>
          <p:cNvSpPr/>
          <p:nvPr/>
        </p:nvSpPr>
        <p:spPr>
          <a:xfrm>
            <a:off x="3500280" y="-1317600"/>
            <a:ext cx="2428920" cy="8715240"/>
          </a:xfrm>
          <a:prstGeom prst="ellipse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ângulo arredondado 6"/>
          <p:cNvSpPr/>
          <p:nvPr/>
        </p:nvSpPr>
        <p:spPr>
          <a:xfrm>
            <a:off x="4427640" y="-243000"/>
            <a:ext cx="5257800" cy="7358040"/>
          </a:xfrm>
          <a:custGeom>
            <a:avLst/>
            <a:gdLst>
              <a:gd name="textAreaLeft" fmla="*/ 73800 w 5257800"/>
              <a:gd name="textAreaRight" fmla="*/ 5184000 w 5257800"/>
              <a:gd name="textAreaTop" fmla="*/ 73800 h 7358040"/>
              <a:gd name="textAreaBottom" fmla="*/ 7284240 h 7358040"/>
            </a:gdLst>
            <a:ahLst/>
            <a:rect l="textAreaLeft" t="textAreaTop" r="textAreaRight" b="textAreaBottom"/>
            <a:pathLst>
              <a:path w="21600" h="30228">
                <a:moveTo>
                  <a:pt x="1040" y="0"/>
                </a:moveTo>
                <a:arcTo wR="1040" hR="1040" stAng="16200000" swAng="-5400000"/>
                <a:lnTo>
                  <a:pt x="0" y="29188"/>
                </a:lnTo>
                <a:arcTo wR="1040" hR="1040" stAng="10800000" swAng="-5400000"/>
                <a:lnTo>
                  <a:pt x="20560" y="30228"/>
                </a:lnTo>
                <a:arcTo wR="1040" hR="1040" stAng="5400000" swAng="-5400000"/>
                <a:lnTo>
                  <a:pt x="21600" y="1040"/>
                </a:lnTo>
                <a:arcTo wR="1040" hR="1040" stAng="0" swAng="-5400000"/>
                <a:close/>
              </a:path>
            </a:pathLst>
          </a:cu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Imagem 10" descr="logo.png"/>
          <p:cNvPicPr/>
          <p:nvPr/>
        </p:nvPicPr>
        <p:blipFill>
          <a:blip r:embed="rId2"/>
          <a:stretch/>
        </p:blipFill>
        <p:spPr>
          <a:xfrm>
            <a:off x="611280" y="4359240"/>
            <a:ext cx="2495520" cy="844560"/>
          </a:xfrm>
          <a:prstGeom prst="rect">
            <a:avLst/>
          </a:prstGeom>
          <a:ln w="0">
            <a:noFill/>
          </a:ln>
        </p:spPr>
      </p:pic>
      <p:pic>
        <p:nvPicPr>
          <p:cNvPr id="53" name="Rectângulo 13" descr=""/>
          <p:cNvPicPr/>
          <p:nvPr/>
        </p:nvPicPr>
        <p:blipFill>
          <a:blip r:embed="rId3"/>
          <a:stretch/>
        </p:blipFill>
        <p:spPr>
          <a:xfrm>
            <a:off x="4363920" y="615960"/>
            <a:ext cx="5035680" cy="5918040"/>
          </a:xfrm>
          <a:prstGeom prst="rect">
            <a:avLst/>
          </a:prstGeom>
          <a:ln w="0">
            <a:noFill/>
          </a:ln>
        </p:spPr>
      </p:pic>
      <p:pic>
        <p:nvPicPr>
          <p:cNvPr id="54" name="Imagem 14" descr=""/>
          <p:cNvPicPr/>
          <p:nvPr/>
        </p:nvPicPr>
        <p:blipFill>
          <a:blip r:embed="rId4"/>
          <a:stretch/>
        </p:blipFill>
        <p:spPr>
          <a:xfrm>
            <a:off x="11544480" y="0"/>
            <a:ext cx="1881000" cy="366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apcer"/>
          <p:cNvPicPr/>
          <p:nvPr/>
        </p:nvPicPr>
        <p:blipFill>
          <a:blip r:embed="rId5"/>
          <a:stretch/>
        </p:blipFill>
        <p:spPr>
          <a:xfrm>
            <a:off x="3589200" y="2463840"/>
            <a:ext cx="76680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476000" y="1165320"/>
            <a:ext cx="72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9cd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3200" spc="-1" strike="noStrike" u="sng">
                <a:solidFill>
                  <a:srgbClr val="b9cde5"/>
                </a:solidFill>
                <a:uFillTx/>
                <a:latin typeface="Century Schoolbook"/>
              </a:rPr>
              <a:t>Análise dos resultados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Marcador de Posição do Rodapé 3"/>
          <p:cNvSpPr/>
          <p:nvPr/>
        </p:nvSpPr>
        <p:spPr>
          <a:xfrm>
            <a:off x="2050920" y="6356520"/>
            <a:ext cx="6635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entury Schoolbook"/>
              </a:rPr>
              <a:t>Dia internacional: Prevenção e controlo da infeção e da resistência aos antimicrobianos    Maria José Viei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16000" y="21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c000"/>
                </a:solidFill>
                <a:latin typeface="Century Schoolbook"/>
              </a:rPr>
              <a:t>Programa de vigilância epidemiológica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619280" y="1855800"/>
          <a:ext cx="7416720" cy="4375080"/>
        </p:xfrm>
        <a:graphic>
          <a:graphicData uri="http://schemas.openxmlformats.org/drawingml/2006/table">
            <a:tbl>
              <a:tblPr/>
              <a:tblGrid>
                <a:gridCol w="3708360"/>
                <a:gridCol w="3708360"/>
              </a:tblGrid>
              <a:tr h="39672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Tipo de tratamento 2ºsemest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ULD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UMD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22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94" name="Gráfico 7" descr=""/>
          <p:cNvPicPr/>
          <p:nvPr/>
        </p:nvPicPr>
        <p:blipFill>
          <a:blip r:embed="rId1"/>
          <a:stretch/>
        </p:blipFill>
        <p:spPr>
          <a:xfrm>
            <a:off x="1639800" y="2706840"/>
            <a:ext cx="3578400" cy="3517920"/>
          </a:xfrm>
          <a:prstGeom prst="rect">
            <a:avLst/>
          </a:prstGeom>
          <a:ln w="0">
            <a:noFill/>
          </a:ln>
        </p:spPr>
      </p:pic>
      <p:pic>
        <p:nvPicPr>
          <p:cNvPr id="95" name="Gráfico 9" descr=""/>
          <p:cNvPicPr/>
          <p:nvPr/>
        </p:nvPicPr>
        <p:blipFill>
          <a:blip r:embed="rId2"/>
          <a:stretch/>
        </p:blipFill>
        <p:spPr>
          <a:xfrm>
            <a:off x="5353200" y="2706840"/>
            <a:ext cx="365760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476000" y="1165320"/>
            <a:ext cx="72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9cd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3200" spc="-1" strike="noStrike" u="sng">
                <a:solidFill>
                  <a:srgbClr val="b9cde5"/>
                </a:solidFill>
                <a:uFillTx/>
                <a:latin typeface="Century Schoolbook"/>
              </a:rPr>
              <a:t>Análise dos resultados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Marcador de Posição do Rodapé 3"/>
          <p:cNvSpPr/>
          <p:nvPr/>
        </p:nvSpPr>
        <p:spPr>
          <a:xfrm>
            <a:off x="2268360" y="6356520"/>
            <a:ext cx="641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entury Schoolbook"/>
              </a:rPr>
              <a:t>Dia internacional: Prevenção e controlo da infeção e da resistência aos antimicrobianos    Maria José Viei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6000" y="21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c000"/>
                </a:solidFill>
                <a:latin typeface="Century Schoolbook"/>
              </a:rPr>
              <a:t>Programa de vigilância epidemiológica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547640" y="1855800"/>
          <a:ext cx="7417080" cy="4303800"/>
        </p:xfrm>
        <a:graphic>
          <a:graphicData uri="http://schemas.openxmlformats.org/drawingml/2006/table">
            <a:tbl>
              <a:tblPr/>
              <a:tblGrid>
                <a:gridCol w="3708720"/>
                <a:gridCol w="3708360"/>
              </a:tblGrid>
              <a:tr h="39672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Microrganismo isolado 2ºsemest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ULD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UMD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22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100" name="Gráfico 8" descr=""/>
          <p:cNvPicPr/>
          <p:nvPr/>
        </p:nvPicPr>
        <p:blipFill>
          <a:blip r:embed="rId1"/>
          <a:stretch/>
        </p:blipFill>
        <p:spPr>
          <a:xfrm>
            <a:off x="1566720" y="2706840"/>
            <a:ext cx="3584880" cy="3444840"/>
          </a:xfrm>
          <a:prstGeom prst="rect">
            <a:avLst/>
          </a:prstGeom>
          <a:ln w="0">
            <a:noFill/>
          </a:ln>
        </p:spPr>
      </p:pic>
      <p:pic>
        <p:nvPicPr>
          <p:cNvPr id="101" name="Gráfico 7" descr=""/>
          <p:cNvPicPr/>
          <p:nvPr/>
        </p:nvPicPr>
        <p:blipFill>
          <a:blip r:embed="rId2"/>
          <a:stretch/>
        </p:blipFill>
        <p:spPr>
          <a:xfrm>
            <a:off x="5278320" y="2639880"/>
            <a:ext cx="3732480" cy="35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476000" y="1165320"/>
            <a:ext cx="72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9cd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3200" spc="-1" strike="noStrike" u="sng">
                <a:solidFill>
                  <a:srgbClr val="b9cde5"/>
                </a:solidFill>
                <a:uFillTx/>
                <a:latin typeface="Century Schoolbook"/>
              </a:rPr>
              <a:t>Análise dos resultados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Marcador de Posição do Rodapé 3"/>
          <p:cNvSpPr/>
          <p:nvPr/>
        </p:nvSpPr>
        <p:spPr>
          <a:xfrm>
            <a:off x="2195640" y="6377040"/>
            <a:ext cx="649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entury Schoolbook"/>
              </a:rPr>
              <a:t>Dia internacional: Prevenção e controlo da infeção e da resistência aos antimicrobianos    Maria José Viei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16000" y="21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c000"/>
                </a:solidFill>
                <a:latin typeface="Century Schoolbook"/>
              </a:rPr>
              <a:t>Programa de vigilância epidemiológica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619280" y="1855800"/>
          <a:ext cx="7427880" cy="4303800"/>
        </p:xfrm>
        <a:graphic>
          <a:graphicData uri="http://schemas.openxmlformats.org/drawingml/2006/table">
            <a:tbl>
              <a:tblPr/>
              <a:tblGrid>
                <a:gridCol w="3714840"/>
                <a:gridCol w="3713040"/>
              </a:tblGrid>
              <a:tr h="3967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Causa de tratamento 2ºsemest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ULD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UMD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22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106" name="Gráfico 7" descr=""/>
          <p:cNvPicPr/>
          <p:nvPr/>
        </p:nvPicPr>
        <p:blipFill>
          <a:blip r:embed="rId1"/>
          <a:stretch/>
        </p:blipFill>
        <p:spPr>
          <a:xfrm>
            <a:off x="1639800" y="2639880"/>
            <a:ext cx="3651480" cy="3511800"/>
          </a:xfrm>
          <a:prstGeom prst="rect">
            <a:avLst/>
          </a:prstGeom>
          <a:ln w="0">
            <a:noFill/>
          </a:ln>
        </p:spPr>
      </p:pic>
      <p:pic>
        <p:nvPicPr>
          <p:cNvPr id="107" name="Gráfico 11" descr=""/>
          <p:cNvPicPr/>
          <p:nvPr/>
        </p:nvPicPr>
        <p:blipFill>
          <a:blip r:embed="rId2"/>
          <a:stretch/>
        </p:blipFill>
        <p:spPr>
          <a:xfrm>
            <a:off x="5492880" y="2639880"/>
            <a:ext cx="365760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476000" y="1165320"/>
            <a:ext cx="72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9cd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3200" spc="-1" strike="noStrike" u="sng">
                <a:solidFill>
                  <a:srgbClr val="b9cde5"/>
                </a:solidFill>
                <a:uFillTx/>
                <a:latin typeface="Century Schoolbook"/>
              </a:rPr>
              <a:t>Análise dos resultados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Marcador de Posição do Rodapé 3"/>
          <p:cNvSpPr/>
          <p:nvPr/>
        </p:nvSpPr>
        <p:spPr>
          <a:xfrm>
            <a:off x="2124000" y="6356520"/>
            <a:ext cx="656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entury Schoolbook"/>
              </a:rPr>
              <a:t>Dia internacional: Prevenção e controlo da infeção e da resistência aos antimicrobianos    Maria José Viei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16000" y="21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c000"/>
                </a:solidFill>
                <a:latin typeface="Century Schoolbook"/>
              </a:rPr>
              <a:t>Programa de vigilância epidemiológica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033640" y="1855800"/>
          <a:ext cx="6653160" cy="4260960"/>
        </p:xfrm>
        <a:graphic>
          <a:graphicData uri="http://schemas.openxmlformats.org/drawingml/2006/table">
            <a:tbl>
              <a:tblPr/>
              <a:tblGrid>
                <a:gridCol w="3327480"/>
                <a:gridCol w="3325680"/>
              </a:tblGrid>
              <a:tr h="3967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rescritor 2ºsemest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ULD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UMD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18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112" name="Gráfico 11" descr=""/>
          <p:cNvPicPr/>
          <p:nvPr/>
        </p:nvPicPr>
        <p:blipFill>
          <a:blip r:embed="rId1"/>
          <a:stretch/>
        </p:blipFill>
        <p:spPr>
          <a:xfrm>
            <a:off x="2066760" y="2852640"/>
            <a:ext cx="3224520" cy="3224160"/>
          </a:xfrm>
          <a:prstGeom prst="rect">
            <a:avLst/>
          </a:prstGeom>
          <a:ln w="0">
            <a:noFill/>
          </a:ln>
        </p:spPr>
      </p:pic>
      <p:pic>
        <p:nvPicPr>
          <p:cNvPr id="113" name="Gráfico 12" descr=""/>
          <p:cNvPicPr/>
          <p:nvPr/>
        </p:nvPicPr>
        <p:blipFill>
          <a:blip r:embed="rId2"/>
          <a:stretch/>
        </p:blipFill>
        <p:spPr>
          <a:xfrm>
            <a:off x="5425920" y="2919240"/>
            <a:ext cx="3224520" cy="30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428480" y="1357200"/>
            <a:ext cx="721044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ddd9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200" spc="-1" strike="noStrike" u="sng">
                <a:solidFill>
                  <a:srgbClr val="ddd9c3"/>
                </a:solidFill>
                <a:uFillTx/>
                <a:latin typeface="Century Schoolbook"/>
              </a:rPr>
              <a:t>Análise dos resultados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c6d9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c6d9f1"/>
                </a:solidFill>
                <a:latin typeface="Arial Narrow"/>
              </a:rPr>
              <a:t>Concluímos que na UMDR a infeção mais frequente é a ITU e na             ULDM é a infeção do trato respiratório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c6d9f1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b9cd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b9cde5"/>
                </a:solidFill>
                <a:latin typeface="Arial Narrow"/>
              </a:rPr>
              <a:t>UMDR no 2º semestre tivemos 32 residentes com  infecções,  22 com história de infeções prévias ao internamento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b9cd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b9cde5"/>
                </a:solidFill>
                <a:latin typeface="Arial Narrow"/>
              </a:rPr>
              <a:t> </a:t>
            </a:r>
            <a:r>
              <a:rPr b="0" lang="pt-PT" sz="2200" spc="-1" strike="noStrike">
                <a:solidFill>
                  <a:srgbClr val="b9cde5"/>
                </a:solidFill>
                <a:latin typeface="Arial Narrow"/>
              </a:rPr>
              <a:t>5 sem informação, mas desenvolveram infecção nos primeiros 7 dias de internamento na unidade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b9cd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" name="Marcador de Posição do Rodapé 3"/>
          <p:cNvSpPr/>
          <p:nvPr/>
        </p:nvSpPr>
        <p:spPr>
          <a:xfrm>
            <a:off x="1979640" y="6356520"/>
            <a:ext cx="6707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entury Schoolbook"/>
              </a:rPr>
              <a:t>Dia internacional: Prevenção e controlo da infeção e da resistência aos antimicrobianos    Maria José Viei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6000" y="21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c000"/>
                </a:solidFill>
                <a:latin typeface="Century Schoolbook"/>
              </a:rPr>
              <a:t>Programa de vigilância epidemiológica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428480" y="1285560"/>
            <a:ext cx="7210440" cy="43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550"/>
              </a:spcBef>
              <a:buClr>
                <a:srgbClr val="ddd9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200" spc="-1" strike="noStrike" u="sng">
                <a:solidFill>
                  <a:srgbClr val="ddd9c3"/>
                </a:solidFill>
                <a:uFillTx/>
                <a:latin typeface="Century Schoolbook"/>
              </a:rPr>
              <a:t>Análise dos resultados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150000"/>
              </a:lnSpc>
              <a:spcBef>
                <a:spcPts val="550"/>
              </a:spcBef>
              <a:buClr>
                <a:srgbClr val="b9cd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b9cde5"/>
                </a:solidFill>
                <a:latin typeface="Arial Narrow"/>
              </a:rPr>
              <a:t>Na ULDM dos 31 residentes a necessitar de tratamento AB, 13 fizeram-no nos primeiros 15 dias de internamento sendo que 8 estavam internados há menos de 7 dia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150000"/>
              </a:lnSpc>
              <a:spcBef>
                <a:spcPts val="550"/>
              </a:spcBef>
              <a:buClr>
                <a:srgbClr val="b9cd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b9cde5"/>
                </a:solidFill>
                <a:latin typeface="Arial Narrow"/>
              </a:rPr>
              <a:t>Na ULDM, a maior parte dos residentes a necessitar de tratamento com antibiótico fizeram-no apenas 1 vez (14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150000"/>
              </a:lnSpc>
              <a:spcBef>
                <a:spcPts val="550"/>
              </a:spcBef>
              <a:buClr>
                <a:srgbClr val="b9cd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b9cde5"/>
                </a:solidFill>
                <a:latin typeface="Arial Narrow"/>
              </a:rPr>
              <a:t>ou 2(12)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150000"/>
              </a:lnSpc>
              <a:spcBef>
                <a:spcPts val="550"/>
              </a:spcBef>
              <a:buClr>
                <a:srgbClr val="b9cd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Marcador de Posição do Rodapé 3"/>
          <p:cNvSpPr/>
          <p:nvPr/>
        </p:nvSpPr>
        <p:spPr>
          <a:xfrm>
            <a:off x="1979640" y="6356520"/>
            <a:ext cx="6707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entury Schoolbook"/>
              </a:rPr>
              <a:t>Dia internacional: Prevenção e controlo da infeção e da resistência aos antimicrobianos    Maria José Viei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16000" y="21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c000"/>
                </a:solidFill>
                <a:latin typeface="Century Schoolbook"/>
              </a:rPr>
              <a:t>Programa de vigilância epidemiológica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1476000" y="1600200"/>
            <a:ext cx="72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ddd9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200" spc="-1" strike="noStrike" u="sng">
                <a:solidFill>
                  <a:srgbClr val="ddd9c3"/>
                </a:solidFill>
                <a:uFillTx/>
                <a:latin typeface="Century Schoolbook"/>
              </a:rPr>
              <a:t>Análise dos resultados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550"/>
              </a:spcBef>
              <a:buClr>
                <a:srgbClr val="b9cd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c6d9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c6d9f1"/>
                </a:solidFill>
                <a:latin typeface="Arial Narrow"/>
              </a:rPr>
              <a:t>A taxa de infeção expressa por doentes admitidos não entra em conta com o facto de que o mesmo doente pode ter mais do que uma infeção. Não pode ser utilizada para fins de comparação entre unidades, porque não contempla a duração do internamento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c6d9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Marcador de Posição do Rodapé 3"/>
          <p:cNvSpPr/>
          <p:nvPr/>
        </p:nvSpPr>
        <p:spPr>
          <a:xfrm>
            <a:off x="2050920" y="6356520"/>
            <a:ext cx="6635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entury Schoolbook"/>
              </a:rPr>
              <a:t>Dia internacional: Prevenção e controlo da infeção e da resistência aos antimicrobianos    Maria José Viei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16000" y="21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c000"/>
                </a:solidFill>
                <a:latin typeface="Century Schoolbook"/>
              </a:rPr>
              <a:t>Programa de vigilância epidemiológica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589040" y="1353600"/>
            <a:ext cx="72835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ddd9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200" spc="-1" strike="noStrike" u="sng">
                <a:solidFill>
                  <a:srgbClr val="ddd9c3"/>
                </a:solidFill>
                <a:uFillTx/>
                <a:latin typeface="Century Schoolbook"/>
              </a:rPr>
              <a:t>Análise dos resultados: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b9cd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b9cde5"/>
                </a:solidFill>
                <a:latin typeface="Arial Narrow"/>
              </a:rPr>
              <a:t>A</a:t>
            </a:r>
            <a:r>
              <a:rPr b="0" i="1" lang="pt-PT" sz="2000" spc="-1" strike="noStrike" u="sng">
                <a:solidFill>
                  <a:srgbClr val="b9cde5"/>
                </a:solidFill>
                <a:uFillTx/>
                <a:latin typeface="Arial Narrow"/>
              </a:rPr>
              <a:t> </a:t>
            </a:r>
            <a:r>
              <a:rPr b="0" lang="pt-PT" sz="2000" spc="-1" strike="noStrike">
                <a:solidFill>
                  <a:srgbClr val="c6d9f1"/>
                </a:solidFill>
                <a:latin typeface="Arial Narrow"/>
              </a:rPr>
              <a:t>densidade de incidência de infeções expressa por 100 dias de internamento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c6d9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c6d9f1"/>
                </a:solidFill>
                <a:latin typeface="Arial Narrow"/>
              </a:rPr>
              <a:t>(Nº de Novos Episódios de infeções/Nº de dias de internamento) x 100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c6d9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c6d9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c6d9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Marcador de Posição do Rodapé 3"/>
          <p:cNvSpPr/>
          <p:nvPr/>
        </p:nvSpPr>
        <p:spPr>
          <a:xfrm>
            <a:off x="2195640" y="6356520"/>
            <a:ext cx="649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entury Schoolbook"/>
              </a:rPr>
              <a:t>Dia internacional: Prevenção e controlo da infeção e da resistência aos antimicrobianos    Maria José Viei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6000" y="21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c000"/>
                </a:solidFill>
                <a:latin typeface="Century Schoolbook"/>
              </a:rPr>
              <a:t>Programa de vigilância epidemiológica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103560" y="4005360"/>
          <a:ext cx="4064040" cy="165564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</a:tblGrid>
              <a:tr h="552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Infe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508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4f81bd"/>
                          </a:solidFill>
                          <a:latin typeface="Century Schoolbook"/>
                        </a:rPr>
                        <a:t>ULD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4f81bd"/>
                          </a:solidFill>
                          <a:latin typeface="Century School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2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4f81bd"/>
                          </a:solidFill>
                          <a:latin typeface="Century Schoolbook"/>
                        </a:rPr>
                        <a:t>UMD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4f81bd"/>
                          </a:solidFill>
                          <a:latin typeface="Century Schoolbook"/>
                        </a:rPr>
                        <a:t>0.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589040" y="1844280"/>
            <a:ext cx="72835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ddd9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200" spc="-1" strike="noStrike" u="sng">
                <a:solidFill>
                  <a:srgbClr val="ddd9c3"/>
                </a:solidFill>
                <a:uFillTx/>
                <a:latin typeface="Century Schoolbook"/>
              </a:rPr>
              <a:t>Análise dos resultados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c6d9f1"/>
                </a:solidFill>
                <a:latin typeface="Arial Narrow"/>
              </a:rPr>
              <a:t>Esta taxa reflete o número de doentes de risco assim como a duração do risco em função da duração de internamento e pode ser utilizada para comparação entre unidades e entre paíse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c6d9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c6d9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c6d9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Marcador de Posição do Rodapé 3"/>
          <p:cNvSpPr/>
          <p:nvPr/>
        </p:nvSpPr>
        <p:spPr>
          <a:xfrm>
            <a:off x="2124000" y="6165720"/>
            <a:ext cx="65628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entury Schoolbook"/>
              </a:rPr>
              <a:t>Dia internacional: Prevenção e controlo da infeção e da resistência aos antimicrobianos    Maria José Viei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16000" y="21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c000"/>
                </a:solidFill>
                <a:latin typeface="Century Schoolbook"/>
              </a:rPr>
              <a:t>Programa de vigilância epidemiológica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Rectângulo 4" descr=""/>
          <p:cNvPicPr/>
          <p:nvPr/>
        </p:nvPicPr>
        <p:blipFill>
          <a:blip r:embed="rId1"/>
          <a:stretch/>
        </p:blipFill>
        <p:spPr>
          <a:xfrm>
            <a:off x="3968640" y="3565440"/>
            <a:ext cx="7736040" cy="2043360"/>
          </a:xfrm>
          <a:prstGeom prst="rect">
            <a:avLst/>
          </a:prstGeom>
          <a:ln w="0">
            <a:noFill/>
          </a:ln>
        </p:spPr>
      </p:pic>
      <p:sp>
        <p:nvSpPr>
          <p:cNvPr id="131" name="Marcador de Posição do Número do Diapositivo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4EAEE-662C-4159-BC29-A163B6F44EF1}" type="slidenum">
              <a:rPr b="0" lang="pt-PT" sz="1200" spc="-1" strike="noStrike">
                <a:solidFill>
                  <a:srgbClr val="898989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CaixaDeTexto 5"/>
          <p:cNvSpPr/>
          <p:nvPr/>
        </p:nvSpPr>
        <p:spPr>
          <a:xfrm>
            <a:off x="2124000" y="262080"/>
            <a:ext cx="6337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6d9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6d9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6d9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c6d9f1"/>
                </a:solidFill>
                <a:latin typeface="Arial"/>
              </a:rPr>
              <a:t>maria.vieira@radelfe.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c000"/>
                </a:solidFill>
                <a:latin typeface="Century Schoolbook"/>
              </a:rPr>
              <a:t>Introdução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186920" y="2060640"/>
            <a:ext cx="7859880" cy="40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ce6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dce6f2"/>
                </a:solidFill>
                <a:latin typeface="Arial Narrow"/>
              </a:rPr>
              <a:t>Radelfe</a:t>
            </a:r>
            <a:r>
              <a:rPr b="0" lang="pt-PT" sz="2000" spc="-1" strike="noStrike">
                <a:solidFill>
                  <a:srgbClr val="dce6f2"/>
                </a:solidFill>
                <a:latin typeface="Arial Narrow"/>
              </a:rPr>
              <a:t> – Unidade UCCI privada, a funcionar desde fevereiro 2009, contemplando UMDR e ULDM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ce6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ce6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dce6f2"/>
                </a:solidFill>
                <a:latin typeface="Arial Narrow"/>
              </a:rPr>
              <a:t>Unidades separadas fisicamente em pisos distintos,  localizada  em Paços de Ferreira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ce6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ce6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dce6f2"/>
                </a:solidFill>
                <a:latin typeface="Arial Narrow"/>
              </a:rPr>
              <a:t>Total de camas – 49 – ( 27 ULDM / 22 UMDR )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ce6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ce6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dce6f2"/>
                </a:solidFill>
                <a:latin typeface="Arial Narrow"/>
              </a:rPr>
              <a:t>Certificada pela APCER             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Marcador de Posição do Rodapé 3"/>
          <p:cNvSpPr/>
          <p:nvPr/>
        </p:nvSpPr>
        <p:spPr>
          <a:xfrm>
            <a:off x="2124000" y="6165720"/>
            <a:ext cx="684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entury Schoolbook"/>
              </a:rPr>
              <a:t>Dia internacional : Prevenção e controlo da infeção e da resistência aos antimicrobianos  Maria José Viei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c000"/>
                </a:solidFill>
                <a:latin typeface="Century Schoolbook"/>
              </a:rPr>
              <a:t>Manual de precauções básicas de controlo de infeção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547280" y="2276280"/>
            <a:ext cx="741708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c6d9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c6d9f1"/>
                </a:solidFill>
                <a:latin typeface="Arial Narrow"/>
              </a:rPr>
              <a:t>Este manual pretende ser um guia prático que oferece normas de orientação claras a todos os profissionais de saúde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c6d9f1"/>
                </a:solidFill>
                <a:latin typeface="Arial Narrow"/>
              </a:rPr>
              <a:t>     </a:t>
            </a:r>
            <a:r>
              <a:rPr b="0" lang="pt-PT" sz="2200" spc="-1" strike="noStrike">
                <a:solidFill>
                  <a:srgbClr val="c6d9f1"/>
                </a:solidFill>
                <a:latin typeface="Arial Narrow"/>
              </a:rPr>
              <a:t>De fácil acesso 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c6d9f1"/>
                </a:solidFill>
                <a:latin typeface="Arial Narrow"/>
              </a:rPr>
              <a:t>     </a:t>
            </a:r>
            <a:r>
              <a:rPr b="0" lang="pt-PT" sz="2200" spc="-1" strike="noStrike">
                <a:solidFill>
                  <a:srgbClr val="c6d9f1"/>
                </a:solidFill>
                <a:latin typeface="Arial Narrow"/>
              </a:rPr>
              <a:t>Atualizado regularmente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c6d9f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c6d9f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550"/>
              </a:spcBef>
              <a:buClr>
                <a:srgbClr val="c6d9f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Marcador de Posição do Rodapé 3"/>
          <p:cNvSpPr/>
          <p:nvPr/>
        </p:nvSpPr>
        <p:spPr>
          <a:xfrm>
            <a:off x="2124000" y="6356520"/>
            <a:ext cx="656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entury Schoolbook"/>
              </a:rPr>
              <a:t>Dia internacional: Prevenção e controlo da infeção e da resistência aos antimicrobianos    Maria José Viei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c000"/>
                </a:solidFill>
                <a:latin typeface="Century Schoolbook"/>
              </a:rPr>
              <a:t>Manual de precauções básicas de controlo de infeção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727280" y="1413000"/>
            <a:ext cx="680544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ddd9c3"/>
                </a:solidFill>
                <a:latin typeface="Arial Narrow"/>
              </a:rPr>
              <a:t>Promove a</a:t>
            </a:r>
            <a:r>
              <a:rPr b="0" lang="pt-PT" sz="2200" spc="-1" strike="noStrike">
                <a:solidFill>
                  <a:srgbClr val="c6d9f1"/>
                </a:solidFill>
                <a:latin typeface="Arial Narrow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c6d9f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c6d9f1"/>
                </a:solidFill>
                <a:latin typeface="Arial Narrow"/>
              </a:rPr>
              <a:t>prática de higiene das mãos,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c6d9f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c6d9f1"/>
                </a:solidFill>
                <a:latin typeface="Arial Narrow"/>
              </a:rPr>
              <a:t>o uso de equipamento de proteção individual,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c6d9f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c6d9f1"/>
                </a:solidFill>
                <a:latin typeface="Arial Narrow"/>
              </a:rPr>
              <a:t>controlo ambiental,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c6d9f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c6d9f1"/>
                </a:solidFill>
                <a:latin typeface="Arial Narrow"/>
              </a:rPr>
              <a:t>tratamento da roupa,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c6d9f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c6d9f1"/>
                </a:solidFill>
                <a:latin typeface="Arial Narrow"/>
              </a:rPr>
              <a:t>gestão de resíduos,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c6d9f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c6d9f1"/>
                </a:solidFill>
                <a:latin typeface="Arial Narrow"/>
              </a:rPr>
              <a:t>etiqueta respiratória 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c6d9f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c6d9f1"/>
                </a:solidFill>
                <a:latin typeface="Arial Narrow"/>
              </a:rPr>
              <a:t>recomendações para prevenção de ITU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c6d9f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550"/>
              </a:spcBef>
              <a:buClr>
                <a:srgbClr val="c6d9f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Marcador de Posição do Rodapé 3"/>
          <p:cNvSpPr/>
          <p:nvPr/>
        </p:nvSpPr>
        <p:spPr>
          <a:xfrm>
            <a:off x="2124000" y="6356520"/>
            <a:ext cx="656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entury Schoolbook"/>
              </a:rPr>
              <a:t>Dia internacional: Prevenção e controlo da infeção e da resistência aos antimicrobianos    Maria José Viei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5165640" y="1578600"/>
            <a:ext cx="2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def3fa"/>
                </a:solidFill>
                <a:latin typeface="Century Schoolbook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ângulo 3"/>
          <p:cNvSpPr/>
          <p:nvPr/>
        </p:nvSpPr>
        <p:spPr>
          <a:xfrm>
            <a:off x="1619280" y="26028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dobe Caslon Pro"/>
                <a:ea typeface="Arial"/>
              </a:rPr>
              <a:t>	</a:t>
            </a:r>
            <a:r>
              <a:rPr b="0" lang="pt-PT" sz="1800" spc="-1" strike="noStrike">
                <a:solidFill>
                  <a:srgbClr val="ffffff"/>
                </a:solidFill>
                <a:latin typeface="Adobe Caslon Pro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c000"/>
                </a:solidFill>
                <a:latin typeface="Century Schoolbook"/>
              </a:rPr>
              <a:t>Programa de vigilância epidemiológica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332000" y="907920"/>
            <a:ext cx="7632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 algn="just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 u="sng">
                <a:solidFill>
                  <a:srgbClr val="b9cde5"/>
                </a:solidFill>
                <a:uFillTx/>
                <a:latin typeface="Century Schoolbook"/>
              </a:rPr>
              <a:t>  </a:t>
            </a:r>
            <a:r>
              <a:rPr b="1" i="1" lang="pt-PT" sz="2000" spc="-1" strike="noStrike" u="sng">
                <a:solidFill>
                  <a:srgbClr val="ddd9c3"/>
                </a:solidFill>
                <a:uFillTx/>
                <a:latin typeface="Century Schoolbook"/>
              </a:rPr>
              <a:t>Objetivos 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19240" indent="-219240" algn="just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19240" indent="-219240">
              <a:lnSpc>
                <a:spcPct val="170000"/>
              </a:lnSpc>
              <a:spcBef>
                <a:spcPts val="499"/>
              </a:spcBef>
              <a:buClr>
                <a:srgbClr val="b9cde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b9cde5"/>
                </a:solidFill>
                <a:latin typeface="Arial Narrow"/>
              </a:rPr>
              <a:t>Determinar a taxa de incidência de infeção e uso de antibióticos, e , assim reconhece-los de forma rigorosa e continuad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19240" indent="-219240">
              <a:lnSpc>
                <a:spcPct val="170000"/>
              </a:lnSpc>
              <a:spcBef>
                <a:spcPts val="499"/>
              </a:spcBef>
              <a:buClr>
                <a:srgbClr val="b9cde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b9cde5"/>
                </a:solidFill>
                <a:latin typeface="Arial Narrow"/>
              </a:rPr>
              <a:t>Planear ações para a prevenção e controlo de infeção,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19240" indent="-219240">
              <a:lnSpc>
                <a:spcPct val="170000"/>
              </a:lnSpc>
              <a:spcBef>
                <a:spcPts val="499"/>
              </a:spcBef>
              <a:buClr>
                <a:srgbClr val="b9cde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b9cde5"/>
                </a:solidFill>
                <a:latin typeface="Arial Narrow"/>
              </a:rPr>
              <a:t>Desenvolver orientações de boas praticas baseadas na evidencia e avaliar o impacto das medidas corretivas aplicadas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19240" indent="-219240">
              <a:lnSpc>
                <a:spcPct val="170000"/>
              </a:lnSpc>
              <a:spcBef>
                <a:spcPts val="499"/>
              </a:spcBef>
              <a:buClr>
                <a:srgbClr val="b9cde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b9cde5"/>
                </a:solidFill>
                <a:latin typeface="Arial Narrow"/>
              </a:rPr>
              <a:t>Promover a formação profissional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316520" indent="-14616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316520" indent="-146160">
              <a:lnSpc>
                <a:spcPct val="170000"/>
              </a:lnSpc>
              <a:spcBef>
                <a:spcPts val="499"/>
              </a:spcBef>
              <a:buClr>
                <a:srgbClr val="b9cde5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316520" indent="-146160">
              <a:lnSpc>
                <a:spcPct val="170000"/>
              </a:lnSpc>
              <a:spcBef>
                <a:spcPts val="499"/>
              </a:spcBef>
              <a:buClr>
                <a:srgbClr val="b9cde5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316520" indent="-146160">
              <a:lnSpc>
                <a:spcPct val="170000"/>
              </a:lnSpc>
              <a:spcBef>
                <a:spcPts val="499"/>
              </a:spcBef>
              <a:buClr>
                <a:srgbClr val="b9cde5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19240" indent="-219240" algn="just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19240" indent="-219240">
              <a:lnSpc>
                <a:spcPct val="170000"/>
              </a:lnSpc>
              <a:spcBef>
                <a:spcPts val="499"/>
              </a:spcBef>
              <a:buClr>
                <a:srgbClr val="b9cd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b9cde5"/>
                </a:solidFill>
                <a:latin typeface="Century Schoolbook"/>
              </a:rPr>
              <a:t>Auditar, trimestralmente, o cumprimento das normas de </a:t>
            </a:r>
            <a:r>
              <a:rPr b="0" lang="pt-PT" sz="2000" spc="-1" strike="noStrike" u="sng">
                <a:solidFill>
                  <a:srgbClr val="0000ff"/>
                </a:solidFill>
                <a:uFillTx/>
                <a:latin typeface="Century Schoolbook"/>
                <a:hlinkClick r:id="rId1"/>
              </a:rPr>
              <a:t>PBCI,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19240" indent="-219240">
              <a:lnSpc>
                <a:spcPct val="170000"/>
              </a:lnSpc>
              <a:spcBef>
                <a:spcPts val="499"/>
              </a:spcBef>
              <a:buClr>
                <a:srgbClr val="b9cd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b9cde5"/>
                </a:solidFill>
                <a:latin typeface="Century Schoolbook"/>
              </a:rPr>
              <a:t>Divulgar semestralmente e discutir as taxas de infeção e uso de antibióticos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19240" indent="-219240" algn="just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" name="Marcador de Posição do Rodapé 1"/>
          <p:cNvSpPr/>
          <p:nvPr/>
        </p:nvSpPr>
        <p:spPr>
          <a:xfrm>
            <a:off x="1979640" y="6269040"/>
            <a:ext cx="63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entury Schoolbook"/>
              </a:rPr>
              <a:t>Dia internacional: Prevenção e controlo da infeção e da resistência aos antimicrobianos    Maria José Viei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5165640" y="1578600"/>
            <a:ext cx="2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def3fa"/>
                </a:solidFill>
                <a:latin typeface="Century Schoolbook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ângulo 3"/>
          <p:cNvSpPr/>
          <p:nvPr/>
        </p:nvSpPr>
        <p:spPr>
          <a:xfrm>
            <a:off x="1619280" y="26028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dobe Caslon Pro"/>
                <a:ea typeface="Arial"/>
              </a:rPr>
              <a:t>	</a:t>
            </a:r>
            <a:r>
              <a:rPr b="0" lang="pt-PT" sz="1800" spc="-1" strike="noStrike">
                <a:solidFill>
                  <a:srgbClr val="ffffff"/>
                </a:solidFill>
                <a:latin typeface="Adobe Caslon Pro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c000"/>
                </a:solidFill>
                <a:latin typeface="Century Schoolbook"/>
              </a:rPr>
              <a:t>Programa de vigilância epidemiológica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692360" y="2565000"/>
            <a:ext cx="71294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 u="sng">
                <a:solidFill>
                  <a:srgbClr val="b9cde5"/>
                </a:solidFill>
                <a:uFillTx/>
                <a:latin typeface="Century Schoolbook"/>
              </a:rPr>
              <a:t> </a:t>
            </a:r>
            <a:r>
              <a:rPr b="1" i="1" lang="pt-PT" sz="2400" spc="-1" strike="noStrike" u="sng">
                <a:solidFill>
                  <a:srgbClr val="b9cde5"/>
                </a:solidFill>
                <a:uFillTx/>
                <a:latin typeface="Arial Narrow"/>
              </a:rPr>
              <a:t>Operacionalização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70000"/>
              </a:lnSpc>
              <a:spcBef>
                <a:spcPts val="499"/>
              </a:spcBef>
              <a:buClr>
                <a:srgbClr val="b9cde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b9cde5"/>
                </a:solidFill>
                <a:latin typeface="Arial Narrow"/>
              </a:rPr>
              <a:t>Auditorias, trimestrais  ao cumprimento dos     procedimentos das precauções básicas de controlo de infeção </a:t>
            </a:r>
            <a:r>
              <a:rPr b="0" lang="pt-PT" sz="2000" spc="-1" strike="noStrike">
                <a:solidFill>
                  <a:srgbClr val="b9cde5"/>
                </a:solidFill>
                <a:latin typeface="Century Schoolbook"/>
              </a:rPr>
              <a:t>(</a:t>
            </a:r>
            <a:r>
              <a:rPr b="0" lang="pt-PT" sz="2000" spc="-1" strike="noStrike" u="sng">
                <a:solidFill>
                  <a:srgbClr val="0000ff"/>
                </a:solidFill>
                <a:uFillTx/>
                <a:latin typeface="Century Schoolbook"/>
                <a:hlinkClick r:id="rId1"/>
              </a:rPr>
              <a:t>PBCI</a:t>
            </a:r>
            <a:r>
              <a:rPr b="0" lang="pt-PT" sz="2000" spc="-1" strike="noStrike">
                <a:solidFill>
                  <a:srgbClr val="b9cde5"/>
                </a:solidFill>
                <a:latin typeface="Century Schoolbook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70000"/>
              </a:lnSpc>
              <a:spcBef>
                <a:spcPts val="499"/>
              </a:spcBef>
              <a:buClr>
                <a:srgbClr val="b9cde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70000"/>
              </a:lnSpc>
              <a:spcBef>
                <a:spcPts val="499"/>
              </a:spcBef>
              <a:buClr>
                <a:srgbClr val="b9cde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Marcador de Posição do Rodapé 1"/>
          <p:cNvSpPr/>
          <p:nvPr/>
        </p:nvSpPr>
        <p:spPr>
          <a:xfrm>
            <a:off x="1908000" y="6269040"/>
            <a:ext cx="640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entury Schoolbook"/>
              </a:rPr>
              <a:t>Dia internacional: Prevenção e controlo da infeção e da resistência aos antimicrobianos    Maria José Viei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5165640" y="1578600"/>
            <a:ext cx="2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def3fa"/>
                </a:solidFill>
                <a:latin typeface="Century Schoolbook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ângulo 3"/>
          <p:cNvSpPr/>
          <p:nvPr/>
        </p:nvSpPr>
        <p:spPr>
          <a:xfrm>
            <a:off x="1619280" y="26028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dobe Caslon Pro"/>
                <a:ea typeface="Arial"/>
              </a:rPr>
              <a:t>	</a:t>
            </a:r>
            <a:r>
              <a:rPr b="0" lang="pt-PT" sz="1800" spc="-1" strike="noStrike">
                <a:solidFill>
                  <a:srgbClr val="ffffff"/>
                </a:solidFill>
                <a:latin typeface="Adobe Caslon Pro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c000"/>
                </a:solidFill>
                <a:latin typeface="Century Schoolbook"/>
              </a:rPr>
              <a:t>Programa de vigilância epidemiológica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692360" y="2060640"/>
            <a:ext cx="71294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 u="sng">
                <a:solidFill>
                  <a:srgbClr val="b9cde5"/>
                </a:solidFill>
                <a:uFillTx/>
                <a:latin typeface="Century Schoolbook"/>
              </a:rPr>
              <a:t> </a:t>
            </a:r>
            <a:r>
              <a:rPr b="1" i="1" lang="pt-PT" sz="2400" spc="-1" strike="noStrike" u="sng">
                <a:solidFill>
                  <a:srgbClr val="b9cde5"/>
                </a:solidFill>
                <a:uFillTx/>
                <a:latin typeface="Arial Narrow"/>
              </a:rPr>
              <a:t>Operacionalização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70000"/>
              </a:lnSpc>
              <a:spcBef>
                <a:spcPts val="601"/>
              </a:spcBef>
              <a:buClr>
                <a:srgbClr val="b9cde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b9cde5"/>
                </a:solidFill>
                <a:latin typeface="Arial Narrow"/>
              </a:rPr>
              <a:t>Vigilância continua das infeções e do uso de antibiótico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400" spc="-1" strike="noStrike">
                <a:solidFill>
                  <a:srgbClr val="b9cde5"/>
                </a:solidFill>
                <a:latin typeface="Arial Narrow"/>
              </a:rPr>
              <a:t> </a:t>
            </a:r>
            <a:r>
              <a:rPr b="0" i="1" lang="pt-PT" sz="2400" spc="-1" strike="noStrike">
                <a:solidFill>
                  <a:srgbClr val="b9cde5"/>
                </a:solidFill>
                <a:latin typeface="Arial Narrow"/>
              </a:rPr>
              <a:t>O diagnostico de infeção na UCC não é assunto linear e a observação da infeção, na nossa unidade baseia-se nos critérios de McGee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b9cde5"/>
                </a:solidFill>
                <a:latin typeface="Arial Narrow"/>
              </a:rPr>
              <a:t>                           </a:t>
            </a:r>
            <a:r>
              <a:rPr b="1" i="1" lang="pt-PT" sz="2400" spc="-1" strike="noStrike" u="sng">
                <a:solidFill>
                  <a:srgbClr val="b9cde5"/>
                </a:solidFill>
                <a:uFillTx/>
                <a:latin typeface="Arial Narrow"/>
              </a:rPr>
              <a:t>Recolha de dados: </a:t>
            </a:r>
            <a:r>
              <a:rPr b="1" i="1" lang="pt-PT" sz="2000" spc="-1" strike="noStrike" u="sng">
                <a:solidFill>
                  <a:srgbClr val="0000ff"/>
                </a:solidFill>
                <a:uFillTx/>
                <a:latin typeface="Arial Narrow"/>
                <a:hlinkClick r:id="rId1"/>
              </a:rPr>
              <a:t>REG_ATB.xl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70000"/>
              </a:lnSpc>
              <a:spcBef>
                <a:spcPts val="499"/>
              </a:spcBef>
              <a:buClr>
                <a:srgbClr val="b9cde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70000"/>
              </a:lnSpc>
              <a:spcBef>
                <a:spcPts val="499"/>
              </a:spcBef>
              <a:buClr>
                <a:srgbClr val="b9cde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Marcador de Posição do Rodapé 1"/>
          <p:cNvSpPr/>
          <p:nvPr/>
        </p:nvSpPr>
        <p:spPr>
          <a:xfrm>
            <a:off x="2050920" y="6269040"/>
            <a:ext cx="6553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entury Schoolbook"/>
              </a:rPr>
              <a:t>Dia internacional: Prevenção e controlo da infeção e da resistência aos antimicrobianos    Maria José Viei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1547280" y="1628640"/>
            <a:ext cx="72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200" spc="-1" strike="noStrike" u="sng">
                <a:solidFill>
                  <a:srgbClr val="ddd9c3"/>
                </a:solidFill>
                <a:uFillTx/>
                <a:latin typeface="Century Schoolbook"/>
              </a:rPr>
              <a:t>População e métodos: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b9cde5"/>
                </a:solidFill>
                <a:latin typeface="Arial Narrow"/>
              </a:rPr>
              <a:t>Todos residentes  da UMDR e ULDR no 2º semestre 2014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b9cde5"/>
                </a:solidFill>
                <a:latin typeface="Arial Narrow"/>
              </a:rPr>
              <a:t>Tamanho da amostra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Marcador de Posição do Rodapé 3"/>
          <p:cNvSpPr/>
          <p:nvPr/>
        </p:nvSpPr>
        <p:spPr>
          <a:xfrm>
            <a:off x="1979640" y="6356520"/>
            <a:ext cx="6707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entury Schoolbook"/>
              </a:rPr>
              <a:t>Dia internacional: Prevenção e controlo da infeção e de resistência aos antimicrobianos    Maria José Viei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6000" y="21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c000"/>
                </a:solidFill>
                <a:latin typeface="Century Schoolbook"/>
              </a:rPr>
              <a:t>Programa de vigilância epidemiológica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050920" y="3933720"/>
          <a:ext cx="6408720" cy="2089080"/>
        </p:xfrm>
        <a:graphic>
          <a:graphicData uri="http://schemas.openxmlformats.org/drawingml/2006/table">
            <a:tbl>
              <a:tblPr/>
              <a:tblGrid>
                <a:gridCol w="1584360"/>
                <a:gridCol w="1295640"/>
                <a:gridCol w="1223640"/>
                <a:gridCol w="1081440"/>
                <a:gridCol w="1223640"/>
              </a:tblGrid>
              <a:tr h="497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ULD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UMD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52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1f497d"/>
                          </a:solidFill>
                          <a:latin typeface="Century Schoolbook"/>
                        </a:rPr>
                        <a:t>Dias int</a:t>
                      </a:r>
                      <a:r>
                        <a:rPr b="0" lang="pt-PT" sz="1800" spc="-1" strike="noStrike">
                          <a:solidFill>
                            <a:srgbClr val="1f497d"/>
                          </a:solidFill>
                          <a:latin typeface="Century Schoolbook"/>
                        </a:rPr>
                        <a:t>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1f497d"/>
                          </a:solidFill>
                          <a:latin typeface="Century Schoolbook"/>
                        </a:rPr>
                        <a:t>Nº reside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1f497d"/>
                          </a:solidFill>
                          <a:latin typeface="Century Schoolbook"/>
                        </a:rPr>
                        <a:t>Dias int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1f497d"/>
                          </a:solidFill>
                          <a:latin typeface="Century Schoolbook"/>
                        </a:rPr>
                        <a:t>Nº reside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796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1f497d"/>
                          </a:solidFill>
                          <a:latin typeface="Century Schoolbook"/>
                        </a:rPr>
                        <a:t>2º Semest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1f497d"/>
                          </a:solidFill>
                          <a:latin typeface="Century Schoolbook"/>
                        </a:rPr>
                        <a:t>47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1f497d"/>
                          </a:solidFill>
                          <a:latin typeface="Century Schoolbook"/>
                        </a:rPr>
                        <a:t>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1f497d"/>
                          </a:solidFill>
                          <a:latin typeface="Century Schoolbook"/>
                        </a:rPr>
                        <a:t>39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1f497d"/>
                          </a:solidFill>
                          <a:latin typeface="Century Schoolbook"/>
                        </a:rPr>
                        <a:t>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476000" y="1165320"/>
            <a:ext cx="72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9cd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3200" spc="-1" strike="noStrike" u="sng">
                <a:solidFill>
                  <a:srgbClr val="b9cde5"/>
                </a:solidFill>
                <a:uFillTx/>
                <a:latin typeface="Century Schoolbook"/>
              </a:rPr>
              <a:t>Análise dos resultados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Marcador de Posição do Rodapé 3"/>
          <p:cNvSpPr/>
          <p:nvPr/>
        </p:nvSpPr>
        <p:spPr>
          <a:xfrm>
            <a:off x="2340000" y="6356520"/>
            <a:ext cx="6346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entury Schoolbook"/>
              </a:rPr>
              <a:t>Dia internacional: Prevenção e controlo da infeção e da resistência aos antimicrobianos   Maria José Viei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6000" y="21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c000"/>
                </a:solidFill>
                <a:latin typeface="Century Schoolbook"/>
              </a:rPr>
              <a:t>Programa de vigilância epidemiológica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619280" y="1855800"/>
          <a:ext cx="7345440" cy="4375080"/>
        </p:xfrm>
        <a:graphic>
          <a:graphicData uri="http://schemas.openxmlformats.org/drawingml/2006/table">
            <a:tbl>
              <a:tblPr/>
              <a:tblGrid>
                <a:gridCol w="3672000"/>
                <a:gridCol w="3673440"/>
              </a:tblGrid>
              <a:tr h="3967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Uso de antibióticos 2ºsemest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ULD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UMD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22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88" name="Gráfico 7" descr=""/>
          <p:cNvPicPr/>
          <p:nvPr/>
        </p:nvPicPr>
        <p:blipFill>
          <a:blip r:embed="rId1"/>
          <a:stretch/>
        </p:blipFill>
        <p:spPr>
          <a:xfrm>
            <a:off x="1639800" y="2706840"/>
            <a:ext cx="3578400" cy="3517920"/>
          </a:xfrm>
          <a:prstGeom prst="rect">
            <a:avLst/>
          </a:prstGeom>
          <a:ln w="0">
            <a:noFill/>
          </a:ln>
        </p:spPr>
      </p:pic>
      <p:pic>
        <p:nvPicPr>
          <p:cNvPr id="89" name="Gráfico 8" descr=""/>
          <p:cNvPicPr/>
          <p:nvPr/>
        </p:nvPicPr>
        <p:blipFill>
          <a:blip r:embed="rId2"/>
          <a:stretch/>
        </p:blipFill>
        <p:spPr>
          <a:xfrm>
            <a:off x="5353200" y="2706840"/>
            <a:ext cx="358272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3T10:48:20Z</dcterms:created>
  <dc:creator>RuiPRS</dc:creator>
  <dc:description/>
  <dc:language>en-US</dc:language>
  <cp:lastModifiedBy>uldm</cp:lastModifiedBy>
  <dcterms:modified xsi:type="dcterms:W3CDTF">2015-05-04T13:46:11Z</dcterms:modified>
  <cp:revision>350</cp:revision>
  <dc:subject/>
  <dc:title>Diapositivo 1</dc:title>
</cp:coreProperties>
</file>